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B239-BA7F-4D9B-A530-02255A31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C9F-7C86-43E4-82DB-66528953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2964-A454-4576-8050-C3784E3A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5BB4-66EB-46CA-BE29-0EE0A5AD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697D-E229-484C-A559-CF12B6B7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195D-9D3F-4DB0-8F89-A6339D23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DAFC-61E6-4527-AD59-A459907B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A36A-A2B1-4FAF-B149-55030AEC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4C4A-A358-4A4A-ABCE-5A8F736B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B1AD-27BD-453F-AC6E-1C22F787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C07A-31DF-40EB-9971-29568AEF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F11D-9C19-4F40-A9DB-01EDE8A7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03EA-6B97-4F28-8933-65063A7F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838D-EEA6-4F9E-8EC9-ADCD5E9E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9C5B-B9C6-48FA-B324-09E3A0E6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085D-8138-4157-B6B5-DD744D89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F9C4-BA8D-4A6C-8872-C0CDE65B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79D7-249A-4A89-B43D-EAB4E6A9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0ADE-A897-4CC7-BE9C-EDC673CE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9E5D-6830-44AA-B070-F2B4CB76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2E0F-E93C-453E-A4A3-59C0D1DD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2A8D-095F-4086-8908-22296C61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AB57-27DE-4682-87BE-8C30EB48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7C95-9A75-4EE8-9EED-7C3BBF46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4762-FBC7-4C33-9A3E-03FCEE63E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11D9-B560-4BD7-A1B9-F9F2F85BEC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DAWG Update to COP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nuary 8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cember meet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verifiable cost submission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nodal settlement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ttlement Test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 details and structure surrounding the EDS 4 approach plan are necessary for successful testing of ERCOT nodal settlement syst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ttlement Test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COT provide file formats and file structures for shadow settlement data no later than then end of Janu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COT work with SDAWG to create a list of all data extracts ERCOT will prov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metrics around shadow settlement data availability and retrieval, creation, completeness, and accura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rther complete testing around data extract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eting: January 2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AWG/DEWG meeting to further discuss EDS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15:48:00Z</dcterms:created>
  <dc:creator>Eric Goff</dc:creator>
  <dc:description/>
  <dc:language>en-US</dc:language>
  <cp:lastModifiedBy>Eric Goff</cp:lastModifiedBy>
  <dcterms:modified xsi:type="dcterms:W3CDTF">2008-01-07T15:51:03Z</dcterms:modified>
  <cp:revision>1</cp:revision>
  <dc:subject/>
  <dc:title>SDAWG Update to COPS</dc:title>
</cp:coreProperties>
</file>